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rojctor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4AFE-8186-4B35-9351-19133C83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404C-6EDB-45C7-8916-4B9B028A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3A9-1572-4C95-A571-DFA1BC05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D2A-A5F7-4395-9976-2F13CD16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940A-DA78-4765-A5B5-0471AB39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ADB4-2BEF-4390-970F-23B83E4D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DD7F-E991-40FA-9006-20A23241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CC4B-02F7-4DDE-825F-5650AF65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E0E6-349E-4463-981B-CCA8CD71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5417-F713-4B82-8589-B18AA6B6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4E17-C1AA-44DF-B60F-765CA8CE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555-C6D2-42BC-BCC5-9D94BBF0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1E27-80F2-4101-9282-AFF5A9E8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D8E9-F7D9-4DD3-BA63-A11C943B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9112-AAB9-4454-AECD-E29058A0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CCBC-8625-4419-9B4C-55D24725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4359-8517-471C-8B42-12BCECDD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A3DE-B048-4A7B-87F4-22F058DB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FD0D-FBB1-4D59-8248-E6EDFA18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E2B6-0FAA-4484-97AF-A7475BC3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FED-EC4D-46AB-8991-6E155353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E884-49E1-4095-B2FE-4360E239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814B-1A42-460C-B6A4-9357ACF6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953-32CB-4F96-9BF3-EC901603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617b"/>
            </a:gs>
            <a:gs pos="100000">
              <a:srgbClr val="022d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4617b">
                  <a:alpha val="50196"/>
                </a:srgbClr>
              </a:gs>
              <a:gs pos="100000">
                <a:srgbClr val="023c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f6fc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696300"/>
              </a:gs>
              <a:gs pos="50000">
                <a:srgbClr val="e2d700"/>
              </a:gs>
              <a:gs pos="100000">
                <a:srgbClr val="696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4617b"/>
              </a:gs>
              <a:gs pos="100000">
                <a:srgbClr val="010f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6896-89A4-4B94-AD09-B5887ABFBB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2d39"/>
            </a:gs>
            <a:gs pos="50000">
              <a:srgbClr val="04617b"/>
            </a:gs>
            <a:gs pos="100000">
              <a:srgbClr val="022d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23c4c"/>
              </a:gs>
              <a:gs pos="50000">
                <a:srgbClr val="04617b">
                  <a:alpha val="50196"/>
                </a:srgbClr>
              </a:gs>
              <a:gs pos="100000">
                <a:srgbClr val="023c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4617b"/>
              </a:gs>
              <a:gs pos="100000">
                <a:srgbClr val="010f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f6fc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FFF5-E227-477C-A6F4-5D55AD2EA9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62B2-68AB-4009-AFA4-613F0EBA3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6000" y="981000"/>
            <a:ext cx="8748720" cy="22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PROIECTUL </a:t>
            </a:r>
            <a:br>
              <a:rPr sz="4400"/>
            </a:b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metoda 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de formare, informare, evaluare</a:t>
            </a:r>
            <a:br>
              <a:rPr sz="4000"/>
            </a:br>
            <a:endParaRPr b="0" lang="en-US" sz="4000" spc="-1" strike="noStrike">
              <a:solidFill>
                <a:srgbClr val="dbf5f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31FA-1886-4F1C-BE60-7067FF37C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mariti activitatea de elaborare a proiectelor , cerand elevilor sa raporteze periodic gradul de realiz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veniti in activitatea unui elev sau a echipei numai daca este strict neces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ati elevii sa se descurce cat mai mult singuri 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urajati-i , au nevoie sa simta sprijin si nu critica ( chiar daca aceasta este obiectiva 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ialele rezultate in urma proiectului este bine sa fie exp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547640" y="584280"/>
            <a:ext cx="53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comandar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3C84-0C5B-4164-88BE-61C2110749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hestionar</a:t>
            </a: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e sunt etapele pe care le-ai parcurs în vederea rezolvãrii efective a sarcinii  de lucru 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 rezolvarea acestei sarcini am învãţat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ficultãţile  pe care le-am întâmpinat au fost urmãtoarele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d cã mi-aş putea îmbunãtãţi  performanţa dacã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d cã activitatea mea ar putea fi apreciatã ca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B0B4-FD44-4B58-B1B7-34A6897511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feed-backul elevilor asistenti</a:t>
            </a: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 ti-a plãcu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e nu ti-a plãcu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um apreciezi activitatea colegilor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66F8-26E5-421E-B4BE-F5B809C87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2d700"/>
                </a:solidFill>
                <a:latin typeface="Times New Roman"/>
              </a:rPr>
              <a:t>In loc de final …</a:t>
            </a: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“ </a:t>
            </a: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Discipolul vine la tine sa-ti ceara . Tu , profesor trebuie sa-l inveti ca n-are nimic de primit, ca trebuie sa creasca. Discipolul tau vrea sa devina iedera . Tu trebuie sa-l lasi sa fie ce trebuie sa fie : chiar buruiana. Si cel mai frumos sfarsit al tau – fertilitatea – e sa te napadeasca buruienile .” ( C. Noica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C2FC-C779-4C00-867D-38C72B970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Bibliografie :</a:t>
            </a: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riale suport de la seminarul de formare  a formatorilor naţionali,  Bucureşti, noiembrie -1998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rierea propunerilor de finanţare-suport de curs, Fundaţia pentru Dezvoltarea Societǎţii Civile, 200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gdan Balan, Ştefan Boncu, Andrei Cosmovici, Teodor Cozma, Carmen Creţu, Constantin Cucoş, Ion Dafinoiu, Luminiţa Iacob, Constantin Moise, Mariana Momanu, Adrian Neculau ,Tiberiu Rudicã , Psihopedagogie pentru examenele de definitivare şi grade didactice, Ed. Polirom,1998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eja  Emanoil, Metodica predãrii fizicii,1995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ster Dumitru, Moldoveanu Mihaela , Gradul I in Invaţãmânt , ghid practic, EDP, Bucureşti, 1997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B1F2-CFDB-490D-AA05-E40F0BB722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 este proiectul ?</a:t>
            </a: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2280"/>
            <a:ext cx="7772400" cy="50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iectul este un plan sau o lucrare cu caracter aplicativ , intocmita pe baza unei teme date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iectul solicita elevilor sa faca o cercetare , o activitate in echipa , o analiza , sinteza sau o creatie 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levul va încerca sã caute rãspuns la urmãtoarele întrebãri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-Ce voi face , ce sarcini trebuie îndeplinit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-Cu ce voi face, ce resurse necesitã fiecare sarcinã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-Cum voi fa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-Cum voi şti dacã ceea ce trebuia fãcut a fost fãcut 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DCF5-B646-4117-BEC2-C9CCFB5A6F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imii pasi in realizarea unui proiect</a:t>
            </a:r>
            <a:r>
              <a:rPr b="0" lang="en-US" sz="40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dbf5f9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iectul –presupune parcurgerea mai multor etape si alocarea unei perioade mari de timp pentru realizare 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ele realizarii proiectului sunt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6fc6"/>
                </a:solidFill>
                <a:latin typeface="Arial"/>
              </a:rPr>
              <a:t>I . Pregatirea proiectulu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II. Implementarea proiectului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II. Evaluarea proiectului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DA3B-12E7-4061-B8CC-AE4F436936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egatirea proiectului ... Cel mai greu e inceputul !</a:t>
            </a:r>
            <a:endParaRPr b="0" lang="en-US" sz="4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1980720"/>
            <a:ext cx="799308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roiectul incepe in clasa prin conturarea obiectivelor ( in functie de tema aleasa de elevi din lista cu teme propusa de profesor 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rmarea echipelor de lucru ( omogene sau , de preferat eterogene 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tabilirea sarcinilor de lucru si a timpului aloca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dentificarea resurselor informationale si materiale necesar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legerea modului de prezentare :poster, prezentare power-point, map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B466-397F-4150-AD36-3F1AF7B5CE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I. Implementarea proiectului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341000"/>
            <a:ext cx="8640720" cy="48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diul de pregatire 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scutii cu elevii asupra subiectului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bilirea modalitatii de lucru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bilirea unor idei principale necesare demararii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dicarea unei bibliografii adecvate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mplementarea propriu – zisa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vii lucreaza sub directa indrumare a profesorului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cesta devine un observator activ al muncii lor intervenind doar atunci cand este nevoie 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D8D9-1CB8-472A-BBEA-236E5AA8A2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97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II. Evaluarea rezultatelor :</a:t>
            </a: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e catre profesor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 fost obiectivele clar definite 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 fost atinse obiectivel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 trebuie schimbat 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fesorul evalueaza calitatea proiectului dar si modul de prezentare al acestuia . El va urmari sa vada daca tema propusa spre studiu a fost  inteleasa corect , daca au fost sistematizate corespunzator rezultatel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e catre elev :</a:t>
            </a: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Elevii prezinta intregii clase si profesorului, rezultatul muncii lor, autoevaluandu-se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e catre colegi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 prin procesul de interevalu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2622-47B8-4AA1-8550-FF8C96D0ED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Dimensiunea formativã</a:t>
            </a: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49240"/>
            <a:ext cx="7772400" cy="43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levul capãtã deprinderi de muncã planificatã, eficientã, disciplinatã. El conştientizeazã  cã parcurgerea drumului pentru realizarea scopului este la fel  de importantã ca  scopul însuşi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Cooperarea   presupune  comunicarea deschisã, onestã (elevi-elevi, elevi-profesor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Isi dezvolta   spiritul de încredere, si  asumarea responsabilitãţii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Face ca forţa comunã sã devinã un obiectiv al colectivului şi dezvoltã spiritul activ 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levul devine iniţiator,organizator, are posibilitatea sã opteze, sã propunã, sã-şi  confrunte 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ideile cu ale altora şi nu în ultimul rand, sã-şi verifice importanţa socialã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E57F-9A90-40C6-98DD-0F02C6C0CB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Dimensiunea informativã</a:t>
            </a:r>
            <a:br>
              <a:rPr sz="4400"/>
            </a:b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oiectul  atinge latura sa informativã prin accesul elevului la multiple surse de informa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etoda proiectelor are un caract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disciplinar (</a:t>
            </a:r>
            <a:r>
              <a:rPr b="1" lang="fr-FR" sz="2400" spc="-1" strike="noStrike">
                <a:solidFill>
                  <a:srgbClr val="ffccff"/>
                </a:solidFill>
                <a:latin typeface="Arial"/>
              </a:rPr>
              <a:t>metoda implicã un anumit grad de integrare între diferite domenii de cunoaştere, diferite abordãri, permiţând schimburi de ordin conceptual şi metodologic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luridisciplinar ( </a:t>
            </a:r>
            <a:r>
              <a:rPr b="1" lang="fr-FR" sz="2400" spc="-1" strike="noStrike">
                <a:solidFill>
                  <a:srgbClr val="ffccff"/>
                </a:solidFill>
                <a:latin typeface="Arial"/>
              </a:rPr>
              <a:t>unele teme pot fi abordate de mai multe discipline cu metodologii diferit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63BA-B831-44C0-B3DE-C92C20EE83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Dimensiunea evaluativa</a:t>
            </a: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În timpul realizãrii sarcinilor de lucru elevul, sau grupul de elevi  vor  analiza resursele  investite ,activitãţile  desfãşurate, rezultatele obţinute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cest proces de monitorizare fãcut din interior, se finalizeazã cu o autoevaluare care-l va obişnui pe elev  cu aprecierea corectã a rezultatelor acţiunilor sale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l capãtã astfel obiectivitate şi putere  de discernãmânt în aprecierea acţiunilor sale şi ale celorlalţi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DELEAN NORIN</cp:lastModifiedBy>
  <dcterms:modified xsi:type="dcterms:W3CDTF">2011-03-03T19:33:1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